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405-6BEC-4B31-B361-889645E2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49C-E622-477C-8522-B93C9C06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ADE-A3B1-4634-895E-7EE4A444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615-C270-4ECF-AF28-65DA66C7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5D1-D3EF-4DA2-AB01-982C0F5E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5AB-A8D0-4CF9-93B5-0FAD7ACD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02E-2EFF-4752-B25F-3BAAA8E8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B77-6B04-4F3C-B697-3679C847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B3D-77B1-40B5-81EE-F6DEA9F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F2D-4EFD-4709-82DD-D1969177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D85-AFD8-4444-A062-662123D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0E2-50C7-47B9-9EE5-40C35AE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C1F-6E10-43CE-B2C0-DABC695E76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FAD6-8C9A-404C-917E-A9B66DD5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797360"/>
            <a:ext cx="2737080" cy="3070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3429000"/>
            <a:ext cx="3527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ARDAS DO PROFES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FC4-D210-4B8A-8D7B-FB40845B025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38C8D-AFA3-4C87-9E72-F552A8E244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1.- ¿Está regulado o número de profesores que ten que haber de gar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FESORADO DE G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924280"/>
            <a:ext cx="7921440" cy="22885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s centros de Ed. Infantil e/ou primaria non está establecido o número de profesores/as de garda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s centros de secundaria o apartado 106 da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rde do 1 de setembro de 1997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establece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que 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“en todos os IES haberá sempre, durante a xornada escolar, un ou máis profesores de garda, segundo as necesidades de cada momento e as dispoñibilidades do centro..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tre as funcións dos profesores de garda tamén figura a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  “tutela do alumnado de educación secundaria durante os períodos de lec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CDB-B9B0-460C-AF0A-1E7CC20E62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0536B-5253-4518-9425-0B3301FD17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 ¿Que facer cando o número de profesores ausentes é maior cos que hai de gar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FESORADO DE G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924280"/>
            <a:ext cx="7921440" cy="31114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e como se recolle no punto 85 da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rde do 1 de agosto de 1997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“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sempre que as dispoñibilidades do centro o permitan o profesorado dedicará as horas complementarias a realizar as tarefas da súa responsabilidade. De non ser posible o director/a determinará as prioridades de atención ás necesidades do centro.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En consecuencia, </a:t>
            </a:r>
            <a:r>
              <a:rPr b="1" i="1" lang="gl-ES" sz="1800" spc="-1" strike="noStrike">
                <a:solidFill>
                  <a:srgbClr val="333399"/>
                </a:solidFill>
                <a:latin typeface="Arial"/>
              </a:rPr>
              <a:t>“cando as necesidades do centro o requiran, o director establecerá que se realicen funcións de garda en períodos de redución...” (Instrucións 1/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384-11AD-464A-85F3-EF7873BBC6E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1F507-FE58-4C21-BDAB-839FE23408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3.- ¿Pode un director asignar unha garda a un mestre que ten asignado no seu horario unha hora de dinamización (non lectiva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FESORADO DE G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924280"/>
            <a:ext cx="7921800" cy="31114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e como se recolle no punto 85 da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Orde do 1 de agosto de 1997,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“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sempre que as dispoñibilidades do centro o permitan o profesorado dedicará as horas complementarias a realizar as tarefas da súa responsabilidade. De non ser posible o director/a determinará as prioridades de atención ás necesidades do centro.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En consecuencia, </a:t>
            </a:r>
            <a:r>
              <a:rPr b="1" i="1" lang="gl-ES" sz="1800" spc="-1" strike="noStrike">
                <a:solidFill>
                  <a:srgbClr val="333399"/>
                </a:solidFill>
                <a:latin typeface="Arial"/>
              </a:rPr>
              <a:t>“cando as necesidades do centro o requiran, o director establecerá que se realicen funcións de garda en períodos de redución...” (Instrucións 1/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29F-78B6-4126-93B4-0A65E030DB8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8CAC7-8513-4A9A-8E1B-F23A6489E1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628640"/>
            <a:ext cx="828180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un centro escolar o transporte escolar, combinado con outro centro, deixa ao alumnado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15 minutos antes do comezo das clases.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 director/a estívose encargando persoalmente da vixilancia do alumnado nese período.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¿Pode adiantar o horario de entrada do profesorado e establecer quendas de garda para que todo o  profesorado colabore na citada vixilancia?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¿De ser así que procedemento tería que levar a cabo?  ¿Poderían incluírse estas gardas dentro das 5 horas de libre disposición semanais do profesor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197000"/>
            <a:ext cx="799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ARDAS NO PERÍODO PREVIO AO COMEZO DAS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4005360"/>
            <a:ext cx="8281800" cy="25628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Unha sentenza  do Tribunal contencioso administrativo do Tribunal Superior de Xustiza de Galicia recoñece non contrario a dereito que todos os profesionais dun centro se ocupen de atender e vixiar ao alumnado transportado no tempo que medie entre a súa chegada ás instalacións do centro e o comezo das actividades propiamente lectivas. Tales períodos de tempo deben ser considerados como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NON LE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dependentemente que o horario a cumprir polo profesorado apareza do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RRI,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debe concretarse cada ano na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PX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ese período de vixilancia e calquera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B4C-1169-435A-ADA2-D6095474B51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41322-2530-40B4-ABDF-3206DC9E6F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FESORADO DE G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924280"/>
            <a:ext cx="7921440" cy="20142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333399"/>
                </a:solidFill>
                <a:latin typeface="Arial"/>
              </a:rPr>
              <a:t>Pola duración do recreo unha garda de recreo debería computar como medio período le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333399"/>
                </a:solidFill>
                <a:latin typeface="Arial"/>
              </a:rPr>
              <a:t>Isto non impide que o centro, en función da súa autonomía, poida decidir que esta garda 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conte como un período lectivo</a:t>
            </a:r>
            <a:r>
              <a:rPr b="1" i="1" lang="gl-ES" sz="1800" spc="-1" strike="noStrike">
                <a:solidFill>
                  <a:srgbClr val="333399"/>
                </a:solidFill>
                <a:latin typeface="Arial"/>
              </a:rPr>
              <a:t> se as dispoñibilidades de persoal o perm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333399"/>
                </a:solidFill>
                <a:latin typeface="Arial"/>
              </a:rPr>
              <a:t>Esta decisión debería figurar no RRI e na P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5. ¿Unha garda de recreo computa como un período lectivo ou como med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67C-BB32-42AF-B585-BAD403AD4EE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7552D-E767-440A-AD9D-FB1A28FEB9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6. ¿Teñen obriga de facer gardas os profesores/as de PT, AL e os orientadores/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FESORADO DE G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924280"/>
            <a:ext cx="7921440" cy="17398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instrucións da D.X.O.I.E. De 21 de xullo de 2008 establecen que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 “o profesorado das especialidades de Pedagoxía Terapéutica, Audición e Linguaxe e o que desempeña a praza de orientación realizarán as gardas que se establezan en función das necesidades organizativas do centro”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B08-326A-43C5-B773-D482E110FF6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6F64A-D112-4D66-A4FA-8A896F35F8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Educación</cp:lastModifiedBy>
  <dcterms:modified xsi:type="dcterms:W3CDTF">2009-10-28T09:16:13Z</dcterms:modified>
  <cp:revision>19</cp:revision>
  <dc:subject/>
  <dc:title>PREGUNTAS E RESPOSTAS</dc:title>
</cp:coreProperties>
</file>